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1F1-E590-4212-9225-7074201B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112-2105-4AF2-947F-DFA7B76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3D5-727E-436D-ABD5-96EEA001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EA9-271B-48C0-875E-BD084909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BF577-EA4F-4F8F-825D-4DE18B40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1B68-4E15-4BB0-95E3-F94B7D0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DF5D-E1E8-4D3A-9CAD-F6689640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D4524-7E6F-4856-AC89-ECB2E74B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D0139-FB88-4E51-AB0A-B6AC27C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CF15-124F-43AA-A7F7-BE0C507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50799-0BB9-467A-8A87-8E9FD6A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3FA-7138-4750-A66C-47D84753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43779-42AE-4E90-9B77-31DC14F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95AC-7F91-47B6-A8E9-57D0D99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13C5A-DEF0-4248-AC53-5F6D667C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1160C-5226-4966-B350-9CC25C1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6F4D-2418-4F61-93BC-945226CC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3D1-7487-40AF-A349-BE99FF2F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0C0-2C33-4DC2-A8D5-74A54BF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FC7-8227-45FD-A9C8-579274A2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11A-7A61-4100-A08A-66DFABA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8E4-A28E-477A-B383-030EBA0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52D-E2DE-4A64-97BD-90447F3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A02-8C14-4CD5-B954-8BBC5E1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634-5E56-418F-90C1-AE5B3B5050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EE5-D29C-4F82-8312-FAF8D028D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uge Hurrica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y Kristen, Allison, Mackenzie, Josep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hurrican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are severe tropical storms that form in the Southern Atlantic Ocean, Caribbean Sea, Gull of Mexico, and in the Eastern Pacific O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hurricanes form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only form over really warm ocean water of 80’F or warmer. The atmosphere (the air) must cool of very quickly the higher you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effects do hurricanes have on us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rricanes can cause damage and people can lose their homes, food, and fami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56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9440" y="-720"/>
            <a:ext cx="26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Hurricane Stages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549360"/>
          <a:ext cx="9144000" cy="631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W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low pressure trough moving generally westward with the trade wi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Disturb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 organized area of thunderstorms that usually forms in the tropics. Typically, they maintain their identity for 24 hours and are accompanied by heavy rains and gusty wi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Cycl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generic term for any organized low pressure that develops over tropical and sometimes sub-tropical waters. Tropical depressions, tropical storms, and hurricanes are all example of tropical cyclon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Depr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 organized area of low pressure in which sustained winds are 38 mph or les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opical St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tropical cyclone with maximum sustained wind speeds that range from 39 to 73 mp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urrica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tropical cyclone with sustained winds of at least 74 mp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Hurricane"/>
          <p:cNvPicPr/>
          <p:nvPr/>
        </p:nvPicPr>
        <p:blipFill>
          <a:blip r:embed="rId2"/>
          <a:stretch/>
        </p:blipFill>
        <p:spPr>
          <a:xfrm>
            <a:off x="1843200" y="4608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do hurricanes occu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lantic hurricane season is from June 1 to November 30, but most hurricanes occur during the fall month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334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do hurricanes occur the mos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 Atlant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stern North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west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y of Bengal / Arabian S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west Pacific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east Indian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thwest Indian Oce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4:44Z</dcterms:created>
  <dc:creator>Neo</dc:creator>
  <dc:description/>
  <dc:language>en-US</dc:language>
  <cp:lastModifiedBy>Neo</cp:lastModifiedBy>
  <dcterms:modified xsi:type="dcterms:W3CDTF">2010-02-03T17:02:16Z</dcterms:modified>
  <cp:revision>3</cp:revision>
  <dc:subject/>
  <dc:title>Huge Hurricanes</dc:title>
</cp:coreProperties>
</file>